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52168"/>
        <c:axId val="61720281"/>
      </c:barChart>
      <c:catAx>
        <c:axId val="77552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20281"/>
        <c:crosses val="autoZero"/>
        <c:auto val="1"/>
        <c:lblAlgn val="ctr"/>
        <c:lblOffset val="100"/>
        <c:noMultiLvlLbl val="0"/>
      </c:catAx>
      <c:valAx>
        <c:axId val="61720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52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3EE-EFA1-4FD5-AFE5-7D6D86D5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076-8E26-46DB-956E-E044D536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264-D40B-4C8B-AC73-7957D830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8F5-FB29-4DE4-8E20-8AB3C867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A27-5361-45B9-BFCE-0830F33E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34D-FAF6-432B-8C12-A11CD3CC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5A5-8485-4666-B1BC-9E0167A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811-EDEB-4964-BA4D-2173D89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E2E-DADB-4B24-AE1B-2EBB7D97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A10-F225-4003-A2DF-B03B980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12B-1B8F-4DC8-BB1C-46F81333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6D0-5A0B-426B-B6AB-58968770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B1D1-8C05-44CB-B9AA-EF0E7198A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