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09347"/>
        <c:axId val="99956360"/>
      </c:barChart>
      <c:catAx>
        <c:axId val="75709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56360"/>
        <c:crosses val="autoZero"/>
        <c:auto val="1"/>
        <c:lblAlgn val="ctr"/>
        <c:lblOffset val="100"/>
        <c:noMultiLvlLbl val="0"/>
      </c:catAx>
      <c:valAx>
        <c:axId val="99956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09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A4E-7DDC-42B2-97C0-540CA0D6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7BE9-5806-45A6-A65D-A8895FD2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E36-BD91-44FF-B94F-CB5C797D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606-DFD4-4606-95D3-4F723683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F46A-2D50-41C0-AD3D-70E16763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35D-B50B-4FC4-B0DE-0009C0A0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E4D8-9F3E-4908-BA22-264EFBA0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21B-74DB-46A9-8C4E-C6D32701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17D-3D5C-4F9A-8C55-846DE3ED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FCC-A4B7-43B0-A867-F86849A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118-A4F0-4563-B512-3EB79560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4AE-140B-4883-BF51-06A618A9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9E008-697E-4B83-9E71-F0DBAFEE58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