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00434"/>
        <c:axId val="32765586"/>
      </c:barChart>
      <c:catAx>
        <c:axId val="94400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65586"/>
        <c:crosses val="autoZero"/>
        <c:auto val="1"/>
        <c:lblAlgn val="ctr"/>
        <c:lblOffset val="100"/>
        <c:noMultiLvlLbl val="0"/>
      </c:catAx>
      <c:valAx>
        <c:axId val="32765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00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E6E-7193-4030-A673-70011119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9C9-1CA5-49E7-8AF3-E1FC1CDD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686-5C33-4E28-BEB9-E9A3E399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6B1-4D4B-4050-A8DF-9BB89FF2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6F0-105D-41D7-8046-75CA330E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D97-BCCE-4FC0-B83C-081C543A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BFA-EB10-4E53-941D-CCE1A91C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F9F-6EF1-49BB-BE44-7C09191A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A30-A605-4085-8047-00B7B007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989-F497-4E80-BD41-243F5B1C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473-9260-4DAC-9103-5F8AE720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064-4EA3-4E32-8C78-65515EF0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C94AA-07BD-4900-9961-CE45966CC2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